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719-1EA1-42AC-82E6-D859B5DB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F0B-656F-4772-8AB4-ACC0BE08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239-7B41-4699-A700-89380A96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8FF-05B1-4CC6-9BD5-74D9338F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DFA-0154-4F93-B962-12CF7F73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A4B-3E72-4B6E-9052-6A33DDD7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27A-1F61-45A4-AE16-17A1121F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626-C057-4194-BA7A-1F6A4FA8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8F8-2C1C-4517-A28B-636A186F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3C4-EB2D-4AF9-939C-704193B7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D9D-E6FF-4531-886A-25447452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783-55DD-40FC-A17D-4B46EFB3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84DE-DB4A-4B0F-B63B-1C0B77526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stitutional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 fulfilled same roles as in Medieval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, pilgrimages, baptisms, marriag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keeping, charity, orphanage,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or was responsible for all church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of th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(post-15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stant Re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es and monarchs heads of “territorial”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ct rules, careful selection of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eauc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archs increased state control over church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ss papal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atholic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Control over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u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politically influential, removed from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is XV  removes Jesuits, takes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e abolishes Jesuits 17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gy should contribute more to soci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eph II of Austria “ Edict on Idle Institu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lished contemplative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nly teach, nurse, practic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k money from dissolved monas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47:53Z</dcterms:created>
  <dc:creator>MNS</dc:creator>
  <dc:description/>
  <dc:language>en-US</dc:language>
  <cp:lastModifiedBy>MNS</cp:lastModifiedBy>
  <dcterms:modified xsi:type="dcterms:W3CDTF">2009-12-04T14:15:05Z</dcterms:modified>
  <cp:revision>12</cp:revision>
  <dc:subject/>
  <dc:title>The Institutional Church</dc:title>
</cp:coreProperties>
</file>